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F85ED-C792-46C4-88EC-75AD08658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F9928-B82F-4922-BA1B-2F357412C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40FA8-1A7E-46B5-A6B9-735ECB2F1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AB357-3313-4BD3-808E-226971787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EFA28-B2BD-4CAB-ADDA-AE7514C0D1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44318-4B1F-472B-B133-4FA0B73016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943D2-C7C7-4FA9-A7E1-104D7DBCBC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57E91-A621-44FC-8280-1A1DB259B2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39924-748F-47EC-81E4-1613332233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8B277-90D6-4337-ABF6-6CDCF8AD19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B0F65-2A23-4E36-B32D-6582E3AB96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23D58-3CD7-42C2-AB7A-4355BCAC5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5A1F7-9C8E-4A3E-B5F3-E22A5C9CF8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5F01B-D551-4B9A-822B-5598D180B2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09680-10F0-49B2-BBAD-C87DAC1174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3A39E-5047-4607-A4B9-2873561955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BA14A-D401-4532-B016-8438580201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9790B-3E89-4FF8-B47A-1037D2811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1264B-AF5F-4BD2-903E-34C42A865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7BFD2-5F3A-4C40-BFD4-640A68FFC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3302C-F280-40EA-A2D0-E06513485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FA948-4747-4AFC-83B6-040EF4959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77518-28E2-48AC-AA9C-84478DFB8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7B743-CF2A-455F-80BA-1938433CB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5AAC04D-CEFE-4AA1-888F-B5513991830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57351D9-6883-4958-BEE8-B877F72109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5A39A8F8-61CF-472E-BB69-1D3B09167FDD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D2D97E22-40E8-4CFC-9FB0-69EECD30430D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3-07-18T12:34:18Z</dcterms:modified>
  <cp:revision>364</cp:revision>
  <dc:subject/>
  <dc:title>No Slide Title</dc:title>
</cp:coreProperties>
</file>